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907588" cy="6858000"/>
  <p:notesSz cx="6858000" cy="9698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69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03160" y="727200"/>
            <a:ext cx="5251680" cy="3636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BC096-83CC-474C-AE65-8AA505B44EE1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803160" y="727200"/>
            <a:ext cx="5251680" cy="363672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6" name="슬라이드 번호 개체 틀 3"/>
          <p:cNvSpPr/>
          <p:nvPr/>
        </p:nvSpPr>
        <p:spPr>
          <a:xfrm>
            <a:off x="38847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A5388-6D31-4F4A-A432-59883E5AB6AD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803160" y="727200"/>
            <a:ext cx="5251680" cy="363672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9" name="슬라이드 번호 개체 틀 3"/>
          <p:cNvSpPr/>
          <p:nvPr/>
        </p:nvSpPr>
        <p:spPr>
          <a:xfrm>
            <a:off x="38847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1E720-8E0F-4C29-A99D-43A61BE78B7C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803160" y="727200"/>
            <a:ext cx="5251680" cy="363672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2" name="슬라이드 번호 개체 틀 3"/>
          <p:cNvSpPr/>
          <p:nvPr/>
        </p:nvSpPr>
        <p:spPr>
          <a:xfrm>
            <a:off x="38847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3405B-FDC9-4DD9-AC2D-99C2104BFFF8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803160" y="727200"/>
            <a:ext cx="5251680" cy="363672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5" name="슬라이드 번호 개체 틀 3"/>
          <p:cNvSpPr/>
          <p:nvPr/>
        </p:nvSpPr>
        <p:spPr>
          <a:xfrm>
            <a:off x="38847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AFC0F-480C-412C-96C6-A245FEE71137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A8B6-31AF-458C-B50E-50A15980C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3182-0E25-4B68-B812-2EF7D28BF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80E5-4CB6-456F-BACF-28C44F1A2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7365-DFDF-49F1-A29B-18B289340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8899-A899-406E-8143-D1EE800B8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FD47-6874-4B1B-BA54-9EF8D39F2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6741-1AD6-4C62-BC10-23ED394A2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F18F-9B80-4A52-9090-3C9E0A2E2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EF97-3D0A-4E68-812F-6F92C3DE9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DE41-525C-4A46-A020-89C17E635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F4D7-183A-4D25-A3A5-68683DAA5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253E-1B2A-4A13-8FE3-D001ECD1D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C20CA-28E4-4A35-A22B-8853FB20B3DC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직사각형 29"/>
          <p:cNvSpPr/>
          <p:nvPr/>
        </p:nvSpPr>
        <p:spPr>
          <a:xfrm>
            <a:off x="4406760" y="422280"/>
            <a:ext cx="169920" cy="625968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9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50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1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52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169920" y="996840"/>
            <a:ext cx="4114800" cy="552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2074*1110*1945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숙사 내실에서 편안한 휴식과 수면을 취할 수 있는 최적의 규격으로 설계되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포스트 구조는 견고한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H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자 구조의 철제프레임으로 내구성이 좋은 형태로 설계되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포스트 하부에 높이조절 레벨러 적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철재사다리는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바닥프레임에 연결되어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침대하단에 서랍을 넣을시 간섭이 없어짐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주머니형 난간덮개로 프레임을 가리고 간단한 소품을 보관할 수 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(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옵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)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매트리스 바닥프레임을 보강하여 더욱 견고해짐  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(20*20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각 파이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 보강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머리판에 실크스크린적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옵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원자재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8t PB 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1.2t ABS EDGE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바닥판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5t PB 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P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프레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.4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발 파이프 및 스틸 파이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분체 도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글라이더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알루미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분체도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캡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ABS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플라스틱 사출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컬러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5" name="Picture 9" descr=""/>
          <p:cNvPicPr/>
          <p:nvPr/>
        </p:nvPicPr>
        <p:blipFill>
          <a:blip r:embed="rId3"/>
          <a:stretch/>
        </p:blipFill>
        <p:spPr>
          <a:xfrm>
            <a:off x="5345280" y="1774800"/>
            <a:ext cx="3886200" cy="3848040"/>
          </a:xfrm>
          <a:prstGeom prst="rect">
            <a:avLst/>
          </a:prstGeom>
          <a:ln w="0">
            <a:noFill/>
          </a:ln>
        </p:spPr>
      </p:pic>
      <p:pic>
        <p:nvPicPr>
          <p:cNvPr id="56" name="그림 10" descr="color.jpg"/>
          <p:cNvPicPr/>
          <p:nvPr/>
        </p:nvPicPr>
        <p:blipFill>
          <a:blip r:embed="rId4"/>
          <a:stretch/>
        </p:blipFill>
        <p:spPr>
          <a:xfrm>
            <a:off x="284040" y="5619600"/>
            <a:ext cx="1729080" cy="368280"/>
          </a:xfrm>
          <a:prstGeom prst="rect">
            <a:avLst/>
          </a:prstGeom>
          <a:ln w="0">
            <a:noFill/>
          </a:ln>
        </p:spPr>
      </p:pic>
      <p:sp>
        <p:nvSpPr>
          <p:cNvPr id="57" name="Text Box 51"/>
          <p:cNvSpPr/>
          <p:nvPr/>
        </p:nvSpPr>
        <p:spPr>
          <a:xfrm>
            <a:off x="1981080" y="585144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선 연결선 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직사각형 2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BED &lt;DBE3022-2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침대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직사각형 4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직선 연결선 30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직사각형 32"/>
          <p:cNvSpPr/>
          <p:nvPr/>
        </p:nvSpPr>
        <p:spPr>
          <a:xfrm>
            <a:off x="4589640" y="422280"/>
            <a:ext cx="180720" cy="643572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169920" y="996840"/>
            <a:ext cx="4533840" cy="39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435*270*1308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숙사</a:t>
            </a:r>
            <a:r>
              <a:rPr b="1" lang="en-US" sz="9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침대용 철재 사다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/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바닥프레임에 연결된 철재 사다리 사용으로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침대하단에 서랍을 넣을 시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간섭이 없어짐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BODY : 15x30x1.4t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발파이프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5x35x1.4t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발파이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 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3t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스틸절곡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지정 분체도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수  상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4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65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6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67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굴림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9" name="Picture 12" descr="\\s098\2009자료관리\02.정제품 사진\교육용\기숙사가구\3000G\단품\DIL3004.jpg"/>
          <p:cNvPicPr/>
          <p:nvPr/>
        </p:nvPicPr>
        <p:blipFill>
          <a:blip r:embed="rId3"/>
          <a:srcRect l="13764" t="1938" r="17245" b="139"/>
          <a:stretch/>
        </p:blipFill>
        <p:spPr>
          <a:xfrm>
            <a:off x="6135840" y="1160640"/>
            <a:ext cx="1915920" cy="47908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" descr=""/>
          <p:cNvPicPr/>
          <p:nvPr/>
        </p:nvPicPr>
        <p:blipFill>
          <a:blip r:embed="rId4"/>
          <a:stretch/>
        </p:blipFill>
        <p:spPr>
          <a:xfrm>
            <a:off x="282600" y="4410000"/>
            <a:ext cx="558720" cy="558720"/>
          </a:xfrm>
          <a:prstGeom prst="rect">
            <a:avLst/>
          </a:prstGeom>
          <a:ln w="9360">
            <a:solidFill>
              <a:srgbClr val="7f7f7f"/>
            </a:solidFill>
            <a:miter/>
          </a:ln>
        </p:spPr>
      </p:pic>
      <p:sp>
        <p:nvSpPr>
          <p:cNvPr id="71" name="직선 연결선 35"/>
          <p:cNvSpPr/>
          <p:nvPr/>
        </p:nvSpPr>
        <p:spPr>
          <a:xfrm>
            <a:off x="169920" y="48096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직사각형 36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LADDER &lt;DIL3004-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철재 사다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직선 연결선 38"/>
          <p:cNvSpPr/>
          <p:nvPr/>
        </p:nvSpPr>
        <p:spPr>
          <a:xfrm>
            <a:off x="90360" y="831960"/>
            <a:ext cx="418788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직사각형 42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Text Box 51"/>
          <p:cNvSpPr/>
          <p:nvPr/>
        </p:nvSpPr>
        <p:spPr>
          <a:xfrm>
            <a:off x="814320" y="4710240"/>
            <a:ext cx="20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한국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AID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주최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PIN UP DESIGN AWARDS 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수상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직사각형 29"/>
          <p:cNvSpPr/>
          <p:nvPr/>
        </p:nvSpPr>
        <p:spPr>
          <a:xfrm>
            <a:off x="4406760" y="422280"/>
            <a:ext cx="169920" cy="625968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7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78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80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Text Box 51"/>
          <p:cNvSpPr/>
          <p:nvPr/>
        </p:nvSpPr>
        <p:spPr>
          <a:xfrm>
            <a:off x="1981080" y="585144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직선 연결선 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직사각형 2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BED &lt;1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침대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직사각형 4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선 연결선 30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7" name="Picture 3" descr="E:\20140916_133412.jpg"/>
          <p:cNvPicPr/>
          <p:nvPr/>
        </p:nvPicPr>
        <p:blipFill>
          <a:blip r:embed="rId3"/>
          <a:srcRect l="17557" t="33157" r="20051" b="19800"/>
          <a:stretch/>
        </p:blipFill>
        <p:spPr>
          <a:xfrm>
            <a:off x="5548320" y="598320"/>
            <a:ext cx="2881440" cy="1571760"/>
          </a:xfrm>
          <a:prstGeom prst="rect">
            <a:avLst/>
          </a:prstGeom>
          <a:ln w="0">
            <a:noFill/>
          </a:ln>
        </p:spPr>
      </p:pic>
      <p:pic>
        <p:nvPicPr>
          <p:cNvPr id="88" name="그림 10" descr=""/>
          <p:cNvPicPr/>
          <p:nvPr/>
        </p:nvPicPr>
        <p:blipFill>
          <a:blip r:embed="rId4"/>
          <a:srcRect l="4714" t="2648" r="5011" b="2976"/>
          <a:stretch/>
        </p:blipFill>
        <p:spPr>
          <a:xfrm>
            <a:off x="4808520" y="2503440"/>
            <a:ext cx="4897440" cy="3830760"/>
          </a:xfrm>
          <a:prstGeom prst="rect">
            <a:avLst/>
          </a:prstGeom>
          <a:ln w="0">
            <a:noFill/>
          </a:ln>
        </p:spPr>
      </p:pic>
      <p:sp>
        <p:nvSpPr>
          <p:cNvPr id="89" name="TextBox 9"/>
          <p:cNvSpPr/>
          <p:nvPr/>
        </p:nvSpPr>
        <p:spPr>
          <a:xfrm>
            <a:off x="219240" y="900000"/>
            <a:ext cx="4187520" cy="55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규  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020(W) X 2059(L) X 928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1000(W) X  2000(L) X 180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4d4d4d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다리통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100mm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4d4d4d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4d4d4d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 상단 모서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 전면 모서리의 라운딩 처리와 내추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컬러 적용으로 안정감 있는  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의 플러쉬패널 가공으로 제품의 경량화 구현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와 매트리스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 간 유격을 최소화하여 기숙사 내실에서의 공간활용성을 고려한 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은 오염과 훼손에 강한 브라운 컬러 패브릭으로 마감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추가침구가 필요 없는 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소  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전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후면 스마트포일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선함침지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접착 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원자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E0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등급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MDF, 39T Flush Panel(4.5T X 30T X 4.5T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EDGE : 0.6T PVC EDGE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원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브라운 패브릭 원단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내장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네오텍스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 솜 압축펀칭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매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3.2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연선매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마이티스프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강선두께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3.50mm 6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회전 스프링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모래시계 형태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목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미송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스프러스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수분함유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3%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이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코너스폰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밀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60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안전성 확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직사각형 29"/>
          <p:cNvSpPr/>
          <p:nvPr/>
        </p:nvSpPr>
        <p:spPr>
          <a:xfrm>
            <a:off x="4406760" y="422280"/>
            <a:ext cx="169920" cy="625968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1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92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3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94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Text Box 51"/>
          <p:cNvSpPr/>
          <p:nvPr/>
        </p:nvSpPr>
        <p:spPr>
          <a:xfrm>
            <a:off x="1981080" y="585144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직선 연결선 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직사각형 2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BED &lt;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메트리스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직선 연결선 30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0" name="그림 1" descr=""/>
          <p:cNvPicPr/>
          <p:nvPr/>
        </p:nvPicPr>
        <p:blipFill>
          <a:blip r:embed="rId3"/>
          <a:srcRect l="2403" t="15147" r="1545" b="19120"/>
          <a:stretch/>
        </p:blipFill>
        <p:spPr>
          <a:xfrm>
            <a:off x="4757760" y="2538360"/>
            <a:ext cx="4795920" cy="2562120"/>
          </a:xfrm>
          <a:prstGeom prst="rect">
            <a:avLst/>
          </a:prstGeom>
          <a:ln w="0">
            <a:noFill/>
          </a:ln>
        </p:spPr>
      </p:pic>
      <p:sp>
        <p:nvSpPr>
          <p:cNvPr id="101" name="직사각형 13"/>
          <p:cNvSpPr/>
          <p:nvPr/>
        </p:nvSpPr>
        <p:spPr>
          <a:xfrm>
            <a:off x="219240" y="860400"/>
            <a:ext cx="3725640" cy="45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규  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1000(W) X 2000(L) X 220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밝은 원단에 비해 오염이 덜한 연그레이 원단에 은은한 무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가공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봉합 테이프 컬러는 진한 그레이 컬러로 투톤 디자인 적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소  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원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선방염 자가드 원단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100%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커버스폰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경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5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314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㎠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±3)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영구합출변형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5%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이하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   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밀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9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사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10mm * 2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매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내장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*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 솜 압축펀칭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7mm(1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당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700g)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파워텍스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*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 솜 압축펀칭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0mm(1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당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000g)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가드텍스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스프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고탄소 포스코산 최고급원료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인장강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500~1720N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㎟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탄소합유량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0.64~0.71%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수축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2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이하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280~320℃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의 고주파 열처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높이는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50mm(±5), 6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회전 스프링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강선두께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2.5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리컬 코일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.40mm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테두리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5.0mm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조립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0.9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압연강판 클립고정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보조스프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가장자리 탄력강화를 위해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6~8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개 투입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옆면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밀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5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스폰지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공기통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4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개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습기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녹방지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공법 및 기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인체에 무해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무취한 핫멜트 접착공법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상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하면 동일사양 적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양면사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, 2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중 비닐포장 완성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직사각형 14"/>
          <p:cNvSpPr/>
          <p:nvPr/>
        </p:nvSpPr>
        <p:spPr>
          <a:xfrm>
            <a:off x="219240" y="5584680"/>
            <a:ext cx="41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*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상기 자재 및 하드웨어는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K.S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품질기준 또는 동일한 품질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기준에 합격한 제품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한컴 윤고딕 240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3" name="Picture 14" descr="D:\2012\아주대\기숙사\시몬스침대\맥시패딕.jpg"/>
          <p:cNvPicPr/>
          <p:nvPr/>
        </p:nvPicPr>
        <p:blipFill>
          <a:blip r:embed="rId4"/>
          <a:stretch/>
        </p:blipFill>
        <p:spPr>
          <a:xfrm>
            <a:off x="7985160" y="396720"/>
            <a:ext cx="192708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5T23:00:37Z</dcterms:created>
  <dc:creator>LIVART</dc:creator>
  <dc:description/>
  <dc:language>en-US</dc:language>
  <cp:lastModifiedBy>ajou</cp:lastModifiedBy>
  <dcterms:modified xsi:type="dcterms:W3CDTF">2016-12-14T06:03:14Z</dcterms:modified>
  <cp:revision>250</cp:revision>
  <dc:subject/>
  <dc:title>슬라이드 1</dc:title>
</cp:coreProperties>
</file>